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872-C793-4F56-BEAE-F34E9C10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1EA-60C6-4766-8676-FD563E0D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47E-E723-44D2-86A8-D684B6E4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90C-C60D-4125-8B5B-64C06851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E7CB-C2F8-4887-945C-5DC95B34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2CC0-947D-4D1F-8BD6-CD31A694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55D6-09FD-4685-9500-7A1B864B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C9FF-62F9-4A14-8A71-3BFD0B5B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6AD0-8647-4ED4-AD8A-1562F9E5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18C2-8CB3-4399-B20A-C21C48F6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60E9-BF65-4231-9979-6D4A4F69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E0D-2A3F-4415-A0DB-67E96224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E261-956B-44D7-9AB4-CB69B51A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2C82-DC95-459A-BB46-80B070A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4470-4D4A-48C3-8E73-1F37DF68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7A62-E50C-40D2-8904-A5491478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4574-E401-4156-BB28-B0AE7CCA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50A-A46C-44DB-BE65-6F5EABCB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750-7B1E-474B-894A-5514A4DC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797-21CD-4A76-9877-4F55F06C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A2C-4CF3-43CF-8773-6FD6CC0E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C5E-887D-4EC2-B5C5-20F47027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01E-B19B-49B2-A4AE-4227604D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1A8-0EBA-4202-8F71-5904685F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D477-EF8A-4D5B-BAC4-5220B0601B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6D7D-268F-407B-ACC1-09C3EA8FA5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rldtravels.com/travelguide/countrie" TargetMode="External"/><Relationship Id="rId2" Type="http://schemas.openxmlformats.org/officeDocument/2006/relationships/hyperlink" Target="http://looklex.com/e.o/saudi_arabia.economy.htms/saudi+arabia/climate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Saudi Arabia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Jake Wire and Shannon Richards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s C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worldtravels.com/travelguide/countri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looklex.com/e.o/saudi_arabia.economy.htms/saudi+arabia/clim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udi Arabian 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5% dese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untains run parallel to the Red Se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country is also wealthy with oi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23920" y="1828800"/>
            <a:ext cx="4000680" cy="4038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57800" y="3886200"/>
            <a:ext cx="2971800" cy="2068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57800" y="1523880"/>
            <a:ext cx="2971800" cy="2370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2971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tural Resourc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audi Arabia has 25% of the world’s proven oil reserv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old mining is also large in Saudi Arabia and began over 5,000 years ag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6480" y="1828800"/>
            <a:ext cx="4000320" cy="40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4572000"/>
            <a:ext cx="381024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3886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mate and Vege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mmer’s can reach up to 113 degrees fahrenheit and can reach temperatures below freezing at nigh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narchy based on Islam until 1992 when it changed to a royal famil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aded by the King who also the commander in chief of the militar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ing has a cabinet of 22 memb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rmer allies to the U.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 and Current Ev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the birth place of Isla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 1990 they joined the coalition that opposed Iraq’s annexation of Kuwa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argest exporter in the worl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come relies heavily on o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port surplus more than 100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rong Production of natural gas as we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rabic is the official langua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jor religion is Musli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ress conservative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ces to Vis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oyal Capital Riyad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Najd, a stony plateau in the center of Saudi Arab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sa, kingdom mostly inhabited by the Shia minority of the are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6480" y="1828800"/>
            <a:ext cx="4000320" cy="4038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33920" cy="2249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800600" y="4114800"/>
            <a:ext cx="38098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7:33:32Z</dcterms:created>
  <dc:creator>jacobmwire</dc:creator>
  <dc:description/>
  <dc:language>en-US</dc:language>
  <cp:lastModifiedBy>jacobmwire</cp:lastModifiedBy>
  <dcterms:modified xsi:type="dcterms:W3CDTF">2009-02-19T17:15:58Z</dcterms:modified>
  <cp:revision>6</cp:revision>
  <dc:subject/>
  <dc:title>Slide 1</dc:title>
</cp:coreProperties>
</file>